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054A-0BA1-4061-A140-56120F873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3A25-A66B-4263-8CE4-A25571D2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868B-D296-4BC5-B344-FC37C91FC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74C0-36B5-40FE-84E3-25BC633B1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E613C-5BE6-47DF-9893-2FD4B6983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EC66-0125-447D-925E-C20B33C2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8632-E89A-4B61-8DBF-68CAC243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2DFE5-5967-4249-A33F-4CEFBB0B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CF11-5ACB-4099-9EC1-A90DBC05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FD40-34DD-41ED-B9C3-0A43378D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3D92-5524-4718-89ED-37F1F8C1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9EF6-9110-4294-AE86-F8F62144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221D-748F-447C-A566-2A8E1EA6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FA14-055D-4384-A9A4-F3B20617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78D1-4186-4361-98E3-7DCE8D3C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E192F-18D4-4016-A580-8E3C4DCC2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7E4D-AFE1-4A0B-9F29-74A282223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AE97-739B-456B-B6F6-102B60BF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DB7D-07C8-41EB-BA87-89C2972AA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8EB3-84F9-44FD-AA94-D3E2B9A7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B4D6-6BF5-4F1A-8EE9-0BA3A79D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BFB5-6F7E-406D-A7BB-1170AC98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C6D1-0F24-4960-BE37-AEE208AA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7ADE-B7FB-4974-B613-90BB2E57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2327-ACA8-4686-AA19-CB3BD42F5D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16FC-213E-459D-8C0F-A7E32EAB40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On The Plains of Moab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.22-3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Story of Bala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k, King of Moab, Wants Balaam To Curse Isra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am Finds A Way To Entice Israel Into A Situation Where God Will Be Displeased With Israel And Justify His Desire To Curse Israel For Balak Without Seeming To Betray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Shows Him That His Donkey Can See What He Refuses To S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ey Ev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in of Ball-Peor – 25:1-18  Ritual For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sraelites slaughter the Midianites – 3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econd Census – 2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 of Inheritance For Zelophehad’s Daughters. 27,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SHUA: Successor to Moses – 27:12-2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uben &amp; Gad Ask For Their Inheritance – 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ties of Refuge - 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23:17:50Z</dcterms:created>
  <dc:creator>Terry W. Benton</dc:creator>
  <dc:description/>
  <dc:language>en-US</dc:language>
  <cp:lastModifiedBy>Terry W. Benton</cp:lastModifiedBy>
  <dcterms:modified xsi:type="dcterms:W3CDTF">2004-12-08T04:48:44Z</dcterms:modified>
  <cp:revision>2</cp:revision>
  <dc:subject/>
  <dc:title>On The Plains of Moab</dc:title>
</cp:coreProperties>
</file>